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1D4-FD22-42CF-A044-3F96368C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755-1EB2-4990-83C3-8A4ECA75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72E-F915-4A4C-9E9F-69449BCE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90C-5F2D-4A75-8479-969560A8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86A2-0D7E-4E47-8F50-DFA006AD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DAB0-05CA-454F-AB8D-06BE08C2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D90-0995-4070-A463-0BEDBD2D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42A-813E-4030-8305-B88BEC49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5527-D21A-4416-9C9A-2B56CD44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E0C9-41B7-45BB-95B3-D3D0D4B8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353C-47F3-4E47-824B-94DD0EE4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562-4341-426C-8B18-F82EEA7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8B27-F47F-41E2-A48C-666DADF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F260-50E2-44AD-A400-6DD1621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0277-98CD-4AFD-AEAD-5CC3877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7FD-3010-427F-8976-C0B2F77B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FE05-E066-47A3-BBD4-F4692DC4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A4F-DD4A-4C56-A398-6754D276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E2E-A2D2-4972-87A9-E7B8986E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2F2-7170-4398-9473-F3A4D8C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CC2-1BB4-42C4-92BF-9F0A42C2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9E3-6B97-4DD7-B8A7-44ED5CC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654-0EB6-4294-AEBD-903B4A0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BA9-7B3C-43FA-89D2-4A6FB9E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6FAC-1BDB-42D3-BB7B-0C3EBAB34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1192-D125-4981-A6E9-E154532E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17.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cro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large scale evolutionary patterns and processes that occur over long period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tuated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developmental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tin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s usually occur because organisms lose their struggle for resources and thus die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did not allow them to evolve to new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ss Extinc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s of time when entire ecosystems were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collapse of food chains and food w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inction was due to environments collapsing rather than natur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e ages, asteroids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ss of life leaves many holes for new organisms to evolve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daptive Radi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olution of several different species from one common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arwin’s 13 finches all evolved from one common species of fi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de effect is that these radiations can produce unrelated organisms that look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vergent 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nrelated organisms come to resembl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natural selection working on the raw materials of organisms that live in simila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sh and sea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dapt a streamlined figure, appendages to move through water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that are closely connected to one another by ecological interactions may evolv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ne organism changes, the other organism will chang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unctuated Equilibriu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ism is the idea that evolution occurs slowly and steadily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ed equilibrium is the idea that long, stable periods of “organism equilibrium” are interrupted by brief periods of rapi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velopmental Ge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hox genes, or control genes, can effect the development of characteristics in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hanges in timing of cell differentiation and ge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42:18Z</dcterms:created>
  <dc:creator>udsd</dc:creator>
  <dc:description/>
  <dc:language>en-US</dc:language>
  <cp:lastModifiedBy>udsd</cp:lastModifiedBy>
  <dcterms:modified xsi:type="dcterms:W3CDTF">2010-06-01T20:54:41Z</dcterms:modified>
  <cp:revision>30</cp:revision>
  <dc:subject/>
  <dc:title>PowerPoint Presentation</dc:title>
</cp:coreProperties>
</file>